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598-8AD9-4EC8-855D-E51B1A31D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Header Placeholder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FIDENTIAL                                                                     TAC Meeting - November 1-2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E: E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and 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ssachusetts Department of Elementary and Secondary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8793FE1-E268-4A58-821D-259825FD2E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A6F-925C-4E1F-814B-EFDE3B5B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E1D-99EC-431F-96CE-ED8F2E1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EE-A2A9-4204-A97A-727C44C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301-C7E3-4A50-97A9-3A5E757C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885-CF7C-446D-BD5F-A50B3BBC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1DF-07CE-4C44-8A6C-79A9533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AD21-3435-42A4-A191-96741BBB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6F7-DDB5-4386-A2F1-4960613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54E0-414F-4A55-A06D-963006E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3A3-1F3F-4EC2-B0A0-F65EF0F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00B-5851-4730-A060-5BDE55C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0E8-FC89-4C7B-A19E-965D94F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AAB5-EB6E-4CDB-B6F4-0FFE4F1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2368-F2B0-4087-8718-1D55F20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61C-61A1-4730-B4A3-1815ECC1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3A73-BD1E-4B15-AD12-3E6B4C42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6D08-21A1-4267-85F8-6A9539BA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ABF7-4B8A-4176-9B2A-7E3C32DC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AA7B-944E-41CA-A41F-E4CEB0A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F72B-46A5-416D-9FC4-ADCB72E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06DF-9FC5-4698-99A0-7889AB6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0771-7EFA-4F36-B216-F65D282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2AA-AA84-4A8B-BA30-C105C07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8207-EEE3-432C-AF1F-E5C386D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4111-9ACD-470F-8523-275B5BF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9AA3-BDD4-48B3-95CD-C0C550D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F899-38BB-4CB2-A941-DD3E94B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24C1-8723-40EF-9B41-F40B010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7D87-91F2-4E09-8C51-2542DDA0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BC91-27F9-478C-B622-43BBC370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2E24-E395-447D-A39E-D7C94A6A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BFE6-8485-4818-A83D-98FB5986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4E84-460C-4C69-BA56-A6F46891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194-0044-4231-B930-344301B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BC22-2BBD-4863-804A-D761D3D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29CB-4F72-4BF0-89FA-420685D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C8E3-A067-45AF-9C9E-1994478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879E-7D90-4FB4-BD65-FCBD205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10DB7-C6DF-49E3-A3AD-38B86B7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DB1A-646E-48B7-8C88-BC8B796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B86F-4A5A-4667-9283-5D32591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BD56-C2EA-446F-BF2C-89C4BFE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CBD6-B2E0-4299-9ABA-82B61269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C304-F804-494A-B47D-8536FC1C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7D5-4651-416A-90D7-8B7BBEC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0ADFB-1E17-452F-AC85-0CAA5F8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AD7D-173C-479D-A8D6-D6C8C630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AA08-BA99-4DD6-8EE7-1845EC1D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1A39-05CC-4020-B832-2E406FB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EBD6-97A2-47E3-9C85-98CD0DD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255F-AAA5-4324-BFD9-F73E42E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88F8-1DC6-4062-87E6-2EE9504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0BA1-B122-4868-A5B9-D9ACDF5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40A5-0182-41AD-BAC0-79A1EA6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AD16-1534-4A3A-A34A-A6C09CFA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656-1E9D-4426-B933-15ED05B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2441-AFC6-44CB-AC92-8F5292C4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A54D9-ABE0-406C-B383-B59AC479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CDE1B-4166-462A-ACE9-001B758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38427-3B0D-451A-AC59-FEA50B7A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93A0A-440C-4A21-B4B0-E675356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9BFBB-0428-4CB5-B7D1-A9CD583A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BF172-C173-40B1-BC10-DBA513F9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521A2-E791-49FA-82A6-9ADCAFB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EFB5D-D193-483A-9E1A-E0D03FB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17BD2-748E-4F46-94D2-A11955B7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5B2-7511-4427-93E8-1EB4F2B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22379-6C9A-4C51-8D80-3A3BDA9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D63E9-4E08-4D01-AA2D-17407EF7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39FEA-862C-4A21-94A1-D118394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9135-C031-4B35-90FE-994C1866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9FCB4-9D3C-40DC-B5D6-CA7C36B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7BFA-BDCB-4914-A903-DB88ACC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BABE-8FF4-4D90-817C-62FDB3BF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97861-516B-4653-9D57-3D03F1D8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A601-8076-47EF-B158-81F6F99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B9AB-7FFD-4512-A3D8-38B338C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CDB-4E31-4B41-9217-591A961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DAB4-2848-4F8E-BDAD-DFDF4FE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C9E9-66F2-4F57-A2BF-B47CBE5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A2B0-76CD-4438-9E58-5FEC680B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1151-C187-4917-888E-427CD87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2B71-48CE-4D81-8726-3929A67D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9CA-5F96-4687-B0CF-CE10B07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02F-5BD8-4602-A21B-E058D15FFC8F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997-B6F3-4F44-9051-112202FD8A15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551-F192-478B-8F03-189262EA300B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94A2-5652-4A10-94D1-2BDEBF5CD447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7F3-8E62-4FD2-8A5B-FD33BEB28965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91F-D02E-4999-921F-E998F247884D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847-208F-48AE-8046-1A6FF5C8A731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534c"/>
                </a:solidFill>
                <a:latin typeface="Book Antiqua"/>
              </a:rPr>
              <a:t>THE FUTURE OF SEI PROFESSIONAL DEVELOPMENT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3886200" y="5638680"/>
            <a:ext cx="4800600" cy="914400"/>
          </a:xfrm>
          <a:prstGeom prst="rect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sented to Milford Public School Staff and Administrators 3.30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0292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TELL INITIATI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 response to the Department of Justice letter citing the non-compliance of Massachusetts in preparing its teachers to work with English language learners in their classrooms, the DESE organized the Rethinking Equity in Teaching ELLs (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RETELL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initiativ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goal of RETELL is to revise and improve educator preparation and PD for sheltered English immersion teachers to as to improve ELL outcom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e the DESE slide handouts for more informat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</a:t>
            </a: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PROPOSAL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:  SEI ENDORSEMENT REQUIREMENT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re will be an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SEI Teacher Endorsement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r educator licensure, license renewal and advancement of a license for all core academic teachers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re will be an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SEI Administrator Endorsement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r all principals, assistant principals,  and supervisors/directors who supervise above teacher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l teachers and administrators would have to obtain this endorsement by June 30, 2016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tle III funds will no longer be allowed to be used for this required training (supplementing vs. supplanting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</a:t>
            </a: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PROPOSAL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:  SEI ENDORSEMENT DETAIL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endorsement will be obtained through a DESE-approved course of study or its equivalen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Focus on literacy, academic language development, SLA, socio-cultural and socio-emotional issu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All core academic teachers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will be required to take the course:  early childhood, elementary, teachers of students with moderate and severe disabilities, teachers of English, reading, LA, math, science, civics and government, economics, history and geography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w SEI knowledge standards will be embedded in every relevant teacher prep program by July 2013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SUMMARY OF PROPOSAL:  LICENSURE AND RENEWAL CHANGES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Effective July 1, 2014, in order to advance to preliminary, temporary, initial or professional licensure, the SEI endorsement must be completed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License Renewal Changes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 the 150 PDPs needed to renew an educator licens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15 PDPs must be related to ESL/SEI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15 PDPs must be related to instruction of students with disabilities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90 PDPs must be related to content or content-based pedagog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30 PDPs as electives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REDIT FOR CATEGORY TRAINING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All category training must be completed as of June 30, 2012 </a:t>
            </a: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(NOTE:  Superintendents were sent a survey to find out whether it makes sense to extend that date until the end of August, 2012)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We do not know whether or not the Department of Justice will allow “grandfathering” of these courses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ere may be an SEI MTEL to determine whether or not teachers have met the skills and knowledge for the SEI endorsement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Questions not answered to date:  who will teach these mandated courses?  Who will fund this initiative?  What does the syllabi for the course look like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DITIONAL COMPONENTS OF RETELL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I coach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ata systems and evaluat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 review of current educator license requirements for an ESL license – may propose revisions in March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OPEN COMMENT PERIOD – </a:t>
            </a:r>
            <a:br>
              <a:rPr sz="3200"/>
            </a:br>
            <a:r>
              <a:rPr b="1" lang="en-US" sz="3200" spc="-1" strike="noStrike">
                <a:solidFill>
                  <a:srgbClr val="6b7d72"/>
                </a:solidFill>
                <a:latin typeface="Book Antiqua"/>
              </a:rPr>
              <a:t>BY APRIL 20, 2012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828440"/>
            <a:ext cx="85341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Written comments on the proposed amendments may be submitted by mail to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RETELL Proposed Amendment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Lisa Keenan / OELAAA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Department of Elementary and Secondary Education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75 Pleasant Street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Malden, MA  02148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espond by email:  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RETELL@doe.mass.edu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Board is expected to vote on the proposed amendments at its monthly meeting scheduled for May 22, 2012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6:44:37Z</dcterms:created>
  <dc:creator>afeldhome</dc:creator>
  <dc:description/>
  <dc:language>en-US</dc:language>
  <cp:lastModifiedBy>Teacher</cp:lastModifiedBy>
  <dcterms:modified xsi:type="dcterms:W3CDTF">2012-04-02T20:12:39Z</dcterms:modified>
  <cp:revision>105</cp:revision>
  <dc:subject/>
  <dc:title>Low Incidence Special Interest Group Meeting</dc:title>
</cp:coreProperties>
</file>